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351-8159-49C6-B6C8-687BCE72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FC8-9A14-407B-BBBF-8B0672C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799-2AC3-475A-A1D0-278287C2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B13-D322-441D-8E0F-65E50C42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F41-8B53-47EB-9E02-5D9A49D1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C24-47CD-479B-A8DE-4C94F910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7D7-BED0-44F5-A1B9-29650802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E88-C894-49B2-89AB-63E1CBA9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EDF-794A-493A-9412-4079CD4E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E64-B405-44B6-BB7B-445CE38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2F2-D3CC-4F32-8B93-81C28C6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B1A-92CE-4766-88D3-EEFEDFA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5688-AD20-4EA0-A173-EBF1324B0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aspberry&amp;usg=ALkJrhgQ3zZW4g8mZYDF7JLgLLuv-v_Ycw" TargetMode="External"/><Relationship Id="rId4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&amp;usg=ALkJrhgVhKpNdVy0LgY7FhRnsFfzgthHFw" TargetMode="External"/><Relationship Id="rId5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Europe&amp;usg=ALkJrhgrO_3KePL2ro-6NklNnhde3Z4sPg" TargetMode="External"/><Relationship Id="rId6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Asia&amp;usg=ALkJrhi1gqEiytxnarClGy7Hcxv5XjuQYA" TargetMode="External"/><Relationship Id="rId7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fe-0" TargetMode="External"/><Relationship Id="rId8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grin-1" TargetMode="External"/><Relationship Id="rId9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North_America&amp;usg=ALkJrhhLT3GQuY0lxtfjHoqBRiPji30v3A" TargetMode="External"/><Relationship Id="rId10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Variety_%28biology%29&amp;usg=ALkJrhjbC-Gv7tUlqkuZB8XmaB4RyQoMbg" TargetMode="External"/><Relationship Id="rId11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2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u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(zmeur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cazional,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uropean de zmeură, Framboise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pur şi simplu,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meur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), este o specie de culoare roşie-fructe de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nativ pentru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de Nord şi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si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de obicei cultivat în alte regiuni tempera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2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 instalaţie de strâns legate, în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erica de Nor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, uneori considerate ca fiind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i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var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este mult mai frecvent tratate ca specie, distinc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gosus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American zmeura), cum se face aici. [3] Red-fructe zmeura cultivate, chiar şi în America de Nord, sunt, în general,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derivaţi horticole de hibrizi de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ceste plante sunt toate abordate în prezentul arti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&amp;scedil;ier: Malina.jpg"/>
          <p:cNvPicPr/>
          <p:nvPr/>
        </p:nvPicPr>
        <p:blipFill>
          <a:blip r:embed="rId14"/>
          <a:stretch/>
        </p:blipFill>
        <p:spPr>
          <a:xfrm>
            <a:off x="457200" y="1600200"/>
            <a:ext cx="37339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5"/>
          <a:stretch/>
        </p:blipFill>
        <p:spPr>
          <a:xfrm>
            <a:off x="4648320" y="1600200"/>
            <a:ext cx="40384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2:16Z</dcterms:created>
  <dc:creator>Elev</dc:creator>
  <dc:description/>
  <dc:language>en-US</dc:language>
  <cp:lastModifiedBy>Elev</cp:lastModifiedBy>
  <dcterms:modified xsi:type="dcterms:W3CDTF">2012-06-18T10:29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